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4.jpeg" ContentType="image/jpeg"/>
  <Override PartName="/ppt/media/image22.gif" ContentType="image/gif"/>
  <Override PartName="/ppt/media/image15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1.jpeg" ContentType="image/jpeg"/>
  <Override PartName="/ppt/media/image1.gif" ContentType="image/gif"/>
  <Override PartName="/ppt/media/image16.png" ContentType="image/png"/>
  <Override PartName="/ppt/media/image17.png" ContentType="image/png"/>
  <Override PartName="/ppt/media/image18.gif" ContentType="image/gif"/>
  <Override PartName="/ppt/media/image19.jpeg" ContentType="image/jpeg"/>
  <Override PartName="/ppt/media/image10.jpeg" ContentType="image/jpeg"/>
  <Override PartName="/ppt/media/image14.png" ContentType="image/png"/>
  <Override PartName="/ppt/media/image21.gif" ContentType="image/gif"/>
  <Override PartName="/ppt/media/image2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7EF-110C-4DC8-A29D-E7568F66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BD2-AEA2-46D5-8BF9-BF80EA4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AFDA1-2233-4798-8A1C-53D7BEE8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2F641-12F9-42C3-BDEB-4CC81F4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1EDCD-7DA0-4C3C-8807-B20FA2A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285D1-3E03-4EB2-8756-2E1AEA2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416EA-61C3-4DDC-AAF4-81C03B1C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95663-9E1D-4451-9B35-0C3F9612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A8D4D-4EAA-41D8-AA9F-F7D82F89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0A276-C07C-46CF-8EFF-76DD8B39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E2077-1CDE-40E2-8B3C-478FC4FD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2CD67-A07E-494A-B170-E588E214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670-112E-452A-BBCA-4E53B446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D22E1-01E2-431C-A2E6-32AE446D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1BD8B-BD74-4058-9182-49779B0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90489-A862-49C3-AEAD-FA6AF38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A566B-642C-4475-A5E1-BF8595E3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A0003-31B4-4B6A-BE5D-7BD85D0D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5638-2361-4C7A-BE3C-6A9693C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59AF7-570C-464D-9AE5-3B63BA1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AF72E-9F9F-4E4A-BC53-85741A9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2E5F9-D290-4549-AFC5-3A9C101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D732-82A3-4BD2-9956-96FC2DDD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797-71BC-44DF-9CA7-5BE2B3D3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BF4E9-764D-4022-91F1-0BBD6364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577F-5BAE-41E9-B64E-49CE212C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1044A-8A11-408C-A441-FFFC050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AED03-6B31-4312-B1A8-6ED0044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87B91-451E-44DA-8361-C4213FC6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879B1-40CE-4158-9346-E58ADBAF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50544-224B-4C7E-B029-42C5A2E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51C2-4D65-46DA-AD65-9292871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BF7EB-7D8B-4933-84D6-53360D33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2C3E-6471-4D95-8C23-0E36FF3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8B4-BF6E-493C-9536-E630B025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9645-CC26-4E44-B957-38123267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421D-4260-4657-B164-11205966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ABF5-9491-4056-AE0A-6BA34B9F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F7D5A-CE34-4218-B38B-7A42F94B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69504-7C96-42D7-936A-BB167BFA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0BBE6-FC3D-44E0-A892-0875C2F1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8E971-3A8F-4312-AD9B-379DC2A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23B8-AE05-4E8E-9305-CAE4393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6EB5D-9F0C-4AE6-AD39-7E9448FE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D06AD-933A-41B8-98D9-176B3C9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1B1-4E23-4584-8080-FE3AEAC5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1E31E-3846-4A32-BC97-1E7262F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1F83F-A2C3-4CED-B466-D80E1B1B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2C116-6958-4F2D-8A93-CAC7A7D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57BBD-158A-48B3-89CF-CAB2F32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1C828-3296-4679-A547-43FF46C3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DE9FD-444B-41DF-97DB-B88FFA5A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5B785-3FB3-40E3-9111-4DBDD82C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0522A-E9B9-4B9E-9DCB-0ED1AFCA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C3B85-4FC6-4915-A29B-C2644E35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E59DE-FC6B-4F40-839F-202D943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3B13-40CD-429C-83BD-D2C669B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21273-A83A-406C-8A0A-B672242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C3902-7264-4E94-AD4A-37175899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A99E0-3BBC-4E8B-B634-E6C52B5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7FFA3-0F27-4BF1-B53E-03D6F67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65CA5-1AC2-4F6F-B48C-464BC14C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0DACC-B7BD-48AC-945D-120C9C8A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372B2-32A7-4308-B648-201A6C77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EB0D6-37AA-42AE-B8DB-13195118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5A4FD-E363-4BF0-B312-A0F68E9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C975D1-CCDD-46DB-8BA4-78FD56FE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1AB-34F8-47FA-8B02-316C41B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01B63-9A02-4358-8215-DC33175F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BB4CC-AC80-428A-A464-58EEF2C3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D46502-02D8-4498-8897-19621FE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62521-F24D-4171-A603-A560FC4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E2397-F6FC-4573-96F9-E7C14FB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EC7A6-C8D3-4812-A406-E70B1BC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F0EA8-6BD9-416E-B505-0EE4A902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F0F49-2E37-41AB-BA78-F7D61CD8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62054-C799-4817-8163-037F1C13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92CB6-7B8F-4AFC-8F54-074046C9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3B40-4334-4D4D-B060-300B1E8D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47E8A-0F77-466B-99F2-F9CF1D7D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99E25-E244-4877-82E9-094CCEC9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410A5-E464-4D8D-8CE6-8525D49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9A1BF-C2F3-438E-8B98-7CA826C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4B9901-E9E7-43C8-8BBC-01E970D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EE3E4-93D9-4354-A38D-BC484C2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B15D6-4ED3-4A40-B791-061B3485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7B090-5F54-4676-A6C3-226984F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E6447-D5C2-498E-8AF7-992428BD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E0707-7682-4735-80D4-12719784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DF41-5855-4EAE-8196-E3219A06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8859BD-2B2F-4FB9-A6EC-7DCC9347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4F994-29F0-4562-9180-27F4423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91977-8F37-4EF6-881A-534DA90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B082B-B0BA-4AD0-9D9C-22CE05DF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BF1C8-336C-4F04-8B15-CBB4FB22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AD229-9B20-4959-9DAF-ED2A40D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83A4E-D5A8-47D7-B6B6-5453417E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048BB-EBB0-4A9A-B138-22A2C97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0D357-E33F-4358-9395-91A3004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F658A-96CC-43B1-B1BD-44A3CDF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DD2-BDF2-4DB9-9034-12B0EBC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E9F8F-0736-4695-A835-59BAC9CA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F289E-7F56-426A-8A19-FB771CE7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1DE6A-003B-46E9-BFB2-6C717A72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36925E-AA4C-479D-9585-11FD288C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39684-563F-4F71-979D-1E613CD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8E7DE-CC51-437D-B385-95518FC1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3CFB1-5E4C-4294-AB25-E8B77C54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E9BFA8-8902-486F-901F-1E2CE85F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2319E-5BD2-4865-82B2-94AD1AD8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E624A-028C-4A59-8CC6-ACA7D6C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8A4-B815-4AA6-BFD0-A7E301FC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0097-B31F-4D46-8730-60F090B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02C69C-C57A-4776-B678-B3A7A0A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7C513-2B61-4F8C-9440-048E13C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41C9A-719A-40C9-A703-F0B550B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E119E-00DF-47D8-A16E-33874905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C4E38-864A-48E3-9CB4-18F226DA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17B23-8CA3-4A2D-B66B-E9A3082D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49369-0734-40D6-B7AE-2615101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106C9-C038-40CF-8F16-DF9D2F97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22B86-691A-4791-A628-8D08232C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73A5A-C5E5-4D10-9832-CDACBB6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B27-7421-4557-863A-120DC10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C9FBC-75BA-44CA-8DE1-3B5156D8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D6B1C-B7CE-43D2-BEC3-7843FE9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52291-F8FE-4DB3-AC73-9DC34643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7AFB8-C6B2-464F-AD81-CDF36E6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B7A98-B37E-4C94-A53D-DDDAFA3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847E0-F440-43AB-A89A-A32EB6F7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2E78E-DA68-4576-B22A-5327CB85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245C1-7F02-467E-A520-21EB98E2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03F8C-CD2B-4728-BC72-3FA38F16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AFE42-A509-40FE-89F1-AB01A17C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97A-6A71-41F2-9825-B6AF4559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89F8B-4D71-4C8B-A3DF-9A0AB45C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11EE3-6014-47B8-9C10-8C9E33BF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A2C717-3636-4124-A532-A8C07DEF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A551C-E20E-41C9-B72D-AD4303F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3DCC03-D7E4-4572-B142-FED66087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982CE-3F11-43D0-BA0A-CF01418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D1E71-8309-4DCA-A65F-76669AA7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8EE53-C721-442A-80A7-ADF363F1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0950D-829E-4B9E-9D1C-8CA5D13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5C6A4-1C60-4C6C-A069-710B876B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C45-8448-49C8-BEED-0BFAA8DE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03E227-63A5-4C34-BB16-BFE5044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D579D-54DE-454E-B969-6210B14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46234-96FC-4D67-88F6-784A9D5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5F223-8773-4671-B723-69FCAF9F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7A24C-0E07-416F-B43C-86397FBB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24C1C2-B911-4C29-B2A1-9849B8C1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360CE-B597-45D3-AD2B-21A4426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D7BC9-E499-4728-8168-696F5A3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F2C0C-5BE8-4230-A014-4177EA21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04E65-C11D-44B8-BC21-CFCE407A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130-E854-4798-A329-5FDD5E12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E8BCB-F775-47B4-8733-D5E038E4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1634F8-0060-4C82-BAF5-73DE5208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247589-B8EF-431E-A379-091F142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996DA-D957-4960-A788-9EF97F6E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7BE96-0FA5-407A-BF92-D7AD2D39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2129F-AE50-4185-BE40-5976D8D6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C15A1-B854-4960-9F50-B75527F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4E116-FB4F-45AD-BAF9-76F74C8C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AAC00-9595-430E-ADBF-0FF37120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FDB72-9165-4C53-A8E4-F10A121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478D-EE5F-414A-B65E-C0C33502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ACB2A7-56A5-4090-B98D-4D13D839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6B470-EDFD-48B7-994A-6189B057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E8555-6C1F-4AF7-9EC8-7FE30703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F273-33E9-4BD4-9417-F16421E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E9569-EE42-4E25-87EB-7A210001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2A20A-7C91-4B2A-B3BD-69DAEC07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F8847-6F49-45C0-88E0-F413E847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67BE92-FC18-4039-B39D-093E8FD2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DAFDA-0281-45C8-8084-2B37796F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02FE-B503-4AE2-B6DA-C8582B2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F33EDA-577D-4041-840C-ACABA030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C04B8-7A2E-4517-B2E7-60750B1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0CE05E-02A7-4D09-9901-38DD7F3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D05BEA-97E9-4B85-B17B-5A7DC0D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B6556-8940-4C38-A862-85510817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EB2FA5-A372-4DE8-994C-C6CC590A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6BCF44-CD8B-46AA-9B2D-2348F85E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8E501D-2493-4715-A5F3-4CF9B601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26674E-E6FD-49D3-B121-7A989B39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FE734-D9FF-4565-9130-CDAB00FB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BA26-F19C-4073-BF83-5E0455C1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3ADEF-917F-4508-A755-60F8FE6A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FBB97-40C7-4231-A37C-9C0765DE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4D49E9-8CEC-4E4D-9256-E9602337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B70A2-A143-4071-8628-9764A601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A5A2D2-E60A-45D9-9517-1B7CD56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EAFB73-D9B4-4C7B-958A-502BA41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20BFB-E2DB-43E5-BF61-868EB513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36883-637C-427B-8FF6-66848DB0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8EA164-C642-428A-8037-4C962776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F458C-B0CB-4DF2-B881-D1302A0E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80EC-5DCE-411C-928D-1FACE85A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020587-C465-4041-952B-590E7F7A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D1DACA-B351-4735-9EE7-BE46CA63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7CEB31-28F9-43B6-8496-23981C4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8C3BA2-420E-445E-9BAC-DA93E72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AB0F54-6324-468D-92D8-3B51208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1B43BC-7D28-4544-BE49-60EE74C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297FDB-BDC1-490C-98AA-7829FDD3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A8F18-436A-4807-A5B3-4DCB4315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00628D-3B72-40BF-B00F-09B3542C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BBD30-B53B-46FA-82D3-CA321EA5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A5FB-8FF4-484C-81F0-385DC06D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E7FB-41EB-47AA-AE26-18A64D6D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68BF2-596C-47DE-8CDE-2F5586CB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4C94DD-7BC5-4F53-86A0-5811C361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EE3E87-2EC7-4F27-8EFA-DA9732FA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D73056-BE1A-4E24-90F8-8C33F4A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5AFEC-8567-4E37-9F80-9997383B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9017F7-4437-4E08-AE31-17D536A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D77BA8-3211-40E7-A1FB-67BBBB80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138F74-6B89-4BF0-9C37-E8B9CFA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F9A11F-7735-4254-B91E-2080584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212E75-3585-4C98-BD90-75B49EC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0D03-5C07-4EF0-A319-E95E62C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C5B701-D886-403D-81C7-ED19F88F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8362F9-74E5-4DAE-8829-03A5A26D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2617F1-1C79-4B9A-9D9E-6CB292E7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116899-E2FA-4A42-BC39-A956C52E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F1C290-31A9-453A-A43E-25D295B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C11AEA-46D7-43B7-95E0-11DBF53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96E757-7882-48B3-8E0E-1E6D5E01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BC8A13-2F24-452B-81F6-E704F7DD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A881D1-3A73-4E2E-9CDF-59D1D98F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238633-02BC-4196-A68A-3E19CC89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5C04-F5EA-4274-9E8C-915D085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617FF-41EF-40D3-900D-A7793B0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329A4-0E82-44DD-808C-FB2BEA33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4DBF9D-FCE2-4BD6-A4ED-679DDC0C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E96CC-C8AC-41E0-9163-2B9E71E2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A4728-57B0-44E2-BB1F-428D748A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B9B047-E749-410D-AC46-80678B12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E728E5-B5CC-4969-BED9-8F51C27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672A87-D3BE-4206-8166-3299D031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8B4EB8-9EDF-4FFA-AED3-EB56F59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736CA0-1155-48C1-9AD1-8E03A590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4A64A-8AEF-4C12-AD0A-AD77E60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B732AB-F2F3-4B1F-8D45-C31F1719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10DFB6-8EEB-4EFE-885E-3293118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73728B-F51D-4F62-BD1A-09DD2EC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28BE32-638F-4E3D-AAF7-B4CB2F2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6B573B-E858-4ED6-8B8D-3F3A14D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E9D916-CBC2-4A38-AAA7-3DB7B38A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0DFB2A-4A24-446A-8974-73C3DAF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5F17-B8E7-411E-96DE-BBA0E11B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AFDA-B802-4601-8CBE-0252FAAD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F02A0-94D1-4363-A3E2-BFA85098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14AA-6294-4EB4-A824-467DADDA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0483-D630-48E0-94AB-2FEC5ECA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64D4-D6CA-4325-BD26-5A8DBBD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E32-1B5D-4FCF-AC83-DFF72ED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3488-390E-4D82-8273-912C0A8B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522A-E079-40A2-8007-153E900C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8368-A7DF-4114-A2EA-4439E24D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D6A8-10B4-480C-8C29-B61C504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5522-5087-493B-90E8-D42C8FE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1C0D-72E7-41A5-8596-B34539BE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8ECF-10A8-4F3C-A62A-DE3DC8E7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E147-83AA-49DA-9C84-035BAB26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B04C-AA8B-4B38-BE8F-05EFE2EB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FCAE-7F06-45E1-95E5-E2A9ECBE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401-34DE-4858-8960-8493E7E6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C2CE-B732-4716-B343-803256E3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B4CD0-B12E-4834-A80A-D6F186D6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87AF8-8995-4B04-B39F-D5DD5D0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E5527-C841-420E-9945-6CA6977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29E2-2551-4458-850D-2D7658E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03090-8600-4E8C-A18C-3085D24C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5AB6-B1ED-4CE2-9D0B-BA59C33F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EF16-7142-416F-88A9-4AB2CF05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2E88-F346-4119-B02D-A3EFCC0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0FAE-F1F1-4CFB-ABA6-8D4F26FA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D81-3DE1-4ECC-B238-D984387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DFB71-8DBF-4747-B675-4AECD7D9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A5920-468F-4612-9914-D6A479E1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0F12-AEFA-4C70-83F5-30C415C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9502-AAA8-44DC-8B7E-ABA3518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D78B-6913-4BBD-B201-19A949B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4037-2001-48D1-A80E-F9BA405F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0D6C-EC5D-45BD-939A-67CD59B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6255-4FD0-4C52-AA54-D463E507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D20DD-C8AF-468D-8E10-21FD744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ED3AC-87C4-4D11-B2FB-D51F1DE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105-903D-4679-AF32-EEFD057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A55E8-16E2-46C3-9729-4806B88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90A79-9E76-4CD1-B44E-9984B209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98C5-FFB8-4CA2-A69D-835D973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0DA26-0AF3-442D-BD8D-9EB7A138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2BFF-5774-4E45-8C45-F3345D4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E7565-EC16-4895-B9DD-FB7E5EC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40D8F-3F0B-47C9-8F79-39FADB65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9899-08AF-4F9C-BAAA-9D59EEC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6C42-C78F-484A-AB5C-8EA86F0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482F2-459E-4337-A2E6-83713F32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333-268D-47E0-A928-B1056E55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E665-B490-4B62-8E09-7D70B03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521A-B146-4F4C-AF77-DF29ACA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AE8D-4D35-41A0-870F-9EAE7130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2890-9374-441D-B90E-942E70BF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CEAFF-FCF4-4336-BF7B-2714C52E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5AA15-84CD-4A4D-879E-6E9FC7F5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DE65-E1B4-4A70-85E1-53155ADA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58C15-D523-447C-8148-8E459DF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82A72-B5B3-40E0-87D6-EBD4E08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A98F-7528-4824-BE29-9D2FDD10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896-585F-4831-9094-8D0D8E3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035FA-1DD7-488B-AE89-00A6A73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99DB-4CE2-4DD7-ACAF-05B5475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C141-944B-4482-AF60-A2FA7E02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FFE9-8307-4484-B0E0-5BE4F10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D479B-4E86-48BC-AE1C-EFBBBD16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C494-BA7E-49C7-B274-AE911FD1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3946C-A7D8-453F-80AE-A17B9BDA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BAEE4-A838-4558-AD21-280C4AAA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1D0A1-F503-4390-80B2-E1B6A01D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2EA1A-E62F-45CC-963D-E493CCC7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115-D6DF-4BAE-A6F2-320BF525C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0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07F-108B-4E5C-A101-4AB04E1A9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D412-0D31-486E-A1FB-51463BFB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7B46-EAE0-4640-88E2-C7E949A3475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74E4-3195-49D4-923C-D16BF459AEF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1940-6A1D-424C-9920-B83EC83C446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B05-8991-46F6-9328-7F0C7F3A120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1FE-30A2-467D-B7DF-DD87048C00A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C5C-E618-458B-9FE3-10342C9129E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9B9-27C1-49A4-B950-BC7B65F1846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810-0AFA-42F8-BD50-EEA163F52D6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F19-D333-459B-97E2-1918A3C30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79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D65-F140-480E-8200-61AA2B05F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11" descr="g14"/>
          <p:cNvPicPr/>
          <p:nvPr/>
        </p:nvPicPr>
        <p:blipFill>
          <a:blip r:embed="rId2"/>
          <a:stretch/>
        </p:blipFill>
        <p:spPr>
          <a:xfrm>
            <a:off x="0" y="0"/>
            <a:ext cx="6172200" cy="30862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1" marL="594360" indent="-22860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2" marL="91440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3" marL="128016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4" marL="164592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1C2-327F-4362-9F43-F899FD60F8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17" descr="j0387248"/>
          <p:cNvPicPr/>
          <p:nvPr/>
        </p:nvPicPr>
        <p:blipFill>
          <a:blip r:embed="rId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6D5B-2545-4FB7-883F-37D694AF00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B35-3884-44F0-B0A8-8C16046190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FE03-7F3A-41F9-8593-72FD461EF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62D-993E-4B8F-B04B-96C37879CE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4047-512D-4FF7-8F9A-53CA906A56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0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F21A-9CF0-44E8-8B8E-EBE5744AFA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g14"/>
          <p:cNvPicPr/>
          <p:nvPr/>
        </p:nvPicPr>
        <p:blipFill>
          <a:blip r:embed="rId2"/>
          <a:stretch/>
        </p:blipFill>
        <p:spPr>
          <a:xfrm flipH="1">
            <a:off x="7315200" y="525780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1" marL="594360" indent="-22860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2" marL="91440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3" marL="128016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4" marL="1645920" indent="-182880">
              <a:spcBef>
                <a:spcPts val="1100"/>
              </a:spcBef>
              <a:buClr>
                <a:srgbClr val="ffffff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5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  <a:p>
            <a:pPr lvl="6" marL="1645920" indent="-182880">
              <a:spcBef>
                <a:spcPts val="1100"/>
              </a:spcBef>
              <a:buClr>
                <a:srgbClr val="000000"/>
              </a:buClr>
              <a:buFont typeface="Blackadder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Blackadder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A08-282D-4F05-9719-B65D01E92ABA}" type="slidenum"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j0387248"/>
          <p:cNvPicPr/>
          <p:nvPr/>
        </p:nvPicPr>
        <p:blipFill>
          <a:blip r:embed="rId2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CCEE-5ABB-413A-8081-EA9C6D83D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9453-6975-4174-908E-4549FCA7BC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1290-DDF1-4F89-B2C8-D58A7A154F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854D-1EDE-4962-8B81-C3F17358B7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136-F392-48D4-9C52-F44F4A3EE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251-BCB7-4C38-A05D-EAA240E9E2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Blackadder ITC"/>
              </a:rPr>
              <a:t>Joint Structure</a:t>
            </a:r>
            <a:endParaRPr b="0" lang="en-US" sz="8800" spc="-1" strike="noStrike">
              <a:solidFill>
                <a:srgbClr val="ffffff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713880" y="1785600"/>
            <a:ext cx="20718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Synovial Joints are freely mova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1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Gliding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articulating surfaces are usually flat (intercarpal, intertarsal, sternum and clavicle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1026" descr="C:\My Documents\gliding.gif"/>
          <p:cNvPicPr/>
          <p:nvPr/>
        </p:nvPicPr>
        <p:blipFill>
          <a:blip r:embed="rId1"/>
          <a:stretch/>
        </p:blipFill>
        <p:spPr>
          <a:xfrm>
            <a:off x="1600200" y="2209680"/>
            <a:ext cx="1782720" cy="19083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027" descr="C:\My Documents\gliding.jpg"/>
          <p:cNvPicPr/>
          <p:nvPr/>
        </p:nvPicPr>
        <p:blipFill>
          <a:blip r:embed="rId2"/>
          <a:stretch/>
        </p:blipFill>
        <p:spPr>
          <a:xfrm>
            <a:off x="4648320" y="2362320"/>
            <a:ext cx="2876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7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  <a:ea typeface="Times New Roman"/>
              </a:rPr>
              <a:t>Hinge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motions are flexion/extension (monoaxial); convex surface of one bone fits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into the concave surface of another (elbow, knee)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1026" descr="C:\My Documents\hinge.jpg"/>
          <p:cNvPicPr/>
          <p:nvPr/>
        </p:nvPicPr>
        <p:blipFill>
          <a:blip r:embed="rId1"/>
          <a:stretch/>
        </p:blipFill>
        <p:spPr>
          <a:xfrm>
            <a:off x="5029200" y="2743200"/>
            <a:ext cx="3322800" cy="141444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027" descr="C:\My Documents\hinge.gif"/>
          <p:cNvPicPr/>
          <p:nvPr/>
        </p:nvPicPr>
        <p:blipFill>
          <a:blip r:embed="rId2"/>
          <a:stretch/>
        </p:blipFill>
        <p:spPr>
          <a:xfrm>
            <a:off x="1828800" y="2362320"/>
            <a:ext cx="126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3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Pivo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rotational movement (monoaxial); rounded, pointed, or concave surface fits into a ring formed partly by bone and partly by a ligament (atlas and axis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1026" descr="C:\My Documents\pivot.gif"/>
          <p:cNvPicPr/>
          <p:nvPr/>
        </p:nvPicPr>
        <p:blipFill>
          <a:blip r:embed="rId1"/>
          <a:stretch/>
        </p:blipFill>
        <p:spPr>
          <a:xfrm>
            <a:off x="1371600" y="2666880"/>
            <a:ext cx="925560" cy="145116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027" descr="C:\My Documents\pivot.jpg"/>
          <p:cNvPicPr/>
          <p:nvPr/>
        </p:nvPicPr>
        <p:blipFill>
          <a:blip r:embed="rId2"/>
          <a:stretch/>
        </p:blipFill>
        <p:spPr>
          <a:xfrm>
            <a:off x="4724280" y="2362320"/>
            <a:ext cx="26830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9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brous (synarthroses):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cks a joint cavity and the articulating bones are held very closely together by fibrous connective tissue;  they permit little or no mov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t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desmo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mpho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Ellipsoidal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oval shaped condyle fits into an elliptical cavity (wrist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1026" descr="C:\My Documents\ellipsoid.jpg"/>
          <p:cNvPicPr/>
          <p:nvPr/>
        </p:nvPicPr>
        <p:blipFill>
          <a:blip r:embed="rId1"/>
          <a:stretch/>
        </p:blipFill>
        <p:spPr>
          <a:xfrm>
            <a:off x="2720880" y="2386080"/>
            <a:ext cx="37004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  <a:ea typeface="Times New Roman"/>
              </a:rPr>
              <a:t>Saddle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  <a:ea typeface="Times New Roman"/>
              </a:rPr>
              <a:t>side-to-side and back-and-forth movements (biaxial); articular surfaces concave in one direction and convex in opposite direction (CMC of thumb)</a:t>
            </a: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1026" descr="C:\My Documents\saddle.jpg"/>
          <p:cNvPicPr/>
          <p:nvPr/>
        </p:nvPicPr>
        <p:blipFill>
          <a:blip r:embed="rId1"/>
          <a:stretch/>
        </p:blipFill>
        <p:spPr>
          <a:xfrm>
            <a:off x="2730600" y="2604960"/>
            <a:ext cx="368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  <a:ea typeface="Times New Roman"/>
              </a:rPr>
              <a:t>Ball and socke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  <a:ea typeface="Times New Roman"/>
              </a:rPr>
              <a:t>movement in 3 planes (triaxial); ball like surface fits into a cuplike depression (shoulder and hip)</a:t>
            </a: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Picture 1026" descr="C:\My Documents\ball_socket.jpg"/>
          <p:cNvPicPr/>
          <p:nvPr/>
        </p:nvPicPr>
        <p:blipFill>
          <a:blip r:embed="rId1"/>
          <a:stretch/>
        </p:blipFill>
        <p:spPr>
          <a:xfrm>
            <a:off x="4419720" y="2209680"/>
            <a:ext cx="4522680" cy="24624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027" descr="C:\My Documents\ballandsocket.gif"/>
          <p:cNvPicPr/>
          <p:nvPr/>
        </p:nvPicPr>
        <p:blipFill>
          <a:blip r:embed="rId2"/>
          <a:stretch/>
        </p:blipFill>
        <p:spPr>
          <a:xfrm>
            <a:off x="1219320" y="2666880"/>
            <a:ext cx="14968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071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ynovial J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5" name="Picture18" descr="http://www.shelfieldpeonline.co.uk/assets/images/joints.gif"/>
          <p:cNvPicPr/>
          <p:nvPr/>
        </p:nvPicPr>
        <p:blipFill>
          <a:blip r:embed="rId1"/>
          <a:stretch/>
        </p:blipFill>
        <p:spPr>
          <a:xfrm>
            <a:off x="3643200" y="0"/>
            <a:ext cx="464364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cartila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surfaces of articulating bones but does not bind them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capsu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s the articular surfaces and encloses the joint c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er layer (fibrous capsule): attached to the periosteum of articulating bones at a variable distance from the edge of the articulating carti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ner layer (synovial membrane): secretes synovial fluid which lubricates the j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rovides nourishment for the articular cartil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ut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nd between the bones of the skull and are united by a thin layer of dense fibrous connective tissu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2" name="Picture 1030" descr="C:\Old Drive\kine\306\bone\suture"/>
          <p:cNvPicPr/>
          <p:nvPr/>
        </p:nvPicPr>
        <p:blipFill>
          <a:blip r:embed="rId1"/>
          <a:stretch/>
        </p:blipFill>
        <p:spPr>
          <a:xfrm>
            <a:off x="4906800" y="198108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int (synovial) cav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losed space that surrounds the 2 articulating surfaces; contains the slippery lubricating fluid called synovi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game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ckened collagenous bands connecting bone to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racapsular ligaments are outside of the articular capsule (MCL, L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capsular ligaments directly attach the 2 articulating surfaces (ACL, PC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icular discs (menisci)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ds of fibrocartilage that lie between the articular surfaces of the bones; help maintain the stability of a joint and direct the flow of synovial fluid to areas of greatest friction;  not all synovial joints have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onents of Synovial Joi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rsa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clike structures that contain synovial fluid to help reduce friction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in and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ndons and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uscles and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gaments and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Picture 4" descr="C:\Old Drive\kine\306\bone\bursa"/>
          <p:cNvPicPr/>
          <p:nvPr/>
        </p:nvPicPr>
        <p:blipFill>
          <a:blip r:embed="rId1"/>
          <a:stretch/>
        </p:blipFill>
        <p:spPr>
          <a:xfrm>
            <a:off x="5181480" y="3429000"/>
            <a:ext cx="3257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2" descr="C:\Old Drive\kine\306\bone\synovialjt.gif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6" name="Picture 2" descr="C:\Old Drive\kine\306\bone\synovial"/>
          <p:cNvPicPr/>
          <p:nvPr/>
        </p:nvPicPr>
        <p:blipFill>
          <a:blip r:embed="rId1"/>
          <a:stretch/>
        </p:blipFill>
        <p:spPr>
          <a:xfrm>
            <a:off x="2719440" y="1371600"/>
            <a:ext cx="370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ndesmo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brous connective tissue forms an interosseous membrane or ligament (distal articulation of the tibia and fibula, shafts of radius and ulna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5" name="Picture 1030" descr="C:\Old Drive\kine\306\bone\syndesmosis"/>
          <p:cNvPicPr/>
          <p:nvPr/>
        </p:nvPicPr>
        <p:blipFill>
          <a:blip r:embed="rId1"/>
          <a:stretch/>
        </p:blipFill>
        <p:spPr>
          <a:xfrm>
            <a:off x="4906800" y="213372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Gompho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e-shaped peg fits into a socket (teeth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9" name="Picture 1029" descr="C:\Old Drive\kine\306\bone\gomphosis"/>
          <p:cNvPicPr/>
          <p:nvPr/>
        </p:nvPicPr>
        <p:blipFill>
          <a:blip r:embed="rId1"/>
          <a:stretch/>
        </p:blipFill>
        <p:spPr>
          <a:xfrm>
            <a:off x="5105520" y="2895480"/>
            <a:ext cx="28461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inous (amphiarthroses):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cks a joint cavity and the articulating bones are tightly connected by cartilag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nchrondros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phy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nchrond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necting material is hyaline cartilage (epiphyseal plate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4" name="Picture 6" descr="C:\Old Drive\kine\306\bone\synchondroses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ymphy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necting material is a broad, flat disc of fibrocartilage (pubic symphysis; bodies of vertebrae)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7" name="Picture 6" descr="C:\Old Drive\kine\306\bone\symphyse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ification of Jo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ynovial (diarthroses)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cavity (space between the articulating bones) is present; freely mov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Glid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iv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llipsoi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15:37:45Z</dcterms:created>
  <dc:creator>Athletic Department</dc:creator>
  <dc:description/>
  <dc:language>en-US</dc:language>
  <cp:lastModifiedBy>Lyn Clarkson</cp:lastModifiedBy>
  <dcterms:modified xsi:type="dcterms:W3CDTF">2009-02-26T00:11:38Z</dcterms:modified>
  <cp:revision>11</cp:revision>
  <dc:subject/>
  <dc:title>Skeletal Structure</dc:title>
</cp:coreProperties>
</file>